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applaus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AFD-171E-40FE-B523-47A4AC3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1E2-1055-40BB-B7D7-7F71F3E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047-FF96-401E-AB76-426697BE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71F-B55C-4336-9F44-A6FF6A33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6EB-D5B2-42AD-9870-AF406F6F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9AE-36C3-4570-B03E-F396DC8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FAB-8E73-4BE3-BAB4-5E097D86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08B-27C5-41F7-882A-0D2BAC6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E7A-DFB8-4FB9-88BC-EC70893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11F-2A8D-4C99-9C6F-E41FC38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DB6-A70A-4D46-B551-2E04771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159-1AD3-4736-B486-50B6517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262-726B-43E8-B57E-73B94302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nnes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590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AndreJ. Fi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innesota Image"/>
          <p:cNvPicPr/>
          <p:nvPr/>
        </p:nvPicPr>
        <p:blipFill>
          <a:blip r:embed="rId1"/>
          <a:stretch/>
        </p:blipFill>
        <p:spPr>
          <a:xfrm>
            <a:off x="2209680" y="3657600"/>
            <a:ext cx="49532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nickname is land of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Saint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state bird is commo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pulation is 4,972 2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8076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’s motto is The Star of the N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flower is Lady sli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53:01Z</dcterms:created>
  <dc:creator>Mother of Divine Grace</dc:creator>
  <dc:description/>
  <dc:language>en-US</dc:language>
  <cp:lastModifiedBy> </cp:lastModifiedBy>
  <dcterms:modified xsi:type="dcterms:W3CDTF">2012-05-20T21:24:07Z</dcterms:modified>
  <cp:revision>5</cp:revision>
  <dc:subject/>
  <dc:title>Minnesota</dc:title>
</cp:coreProperties>
</file>